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0340-19A3-4F2C-8D96-1256ED1FE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3F50-9C4D-4C19-A96E-8C56ACE91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20C5-08A7-4C1C-945B-34D319259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8129-E598-4FDA-86CE-CAE663CAD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3973-82BE-48FC-9D66-658FE8AA0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2156-720F-4C4B-BA21-3AF789F59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B6F1-88BF-4E92-BAEA-712E1AD81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EFC1-1EAE-431A-B418-69672F877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A0E3-D655-49F5-AD9D-403333D0C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276C-57EA-4383-9C8F-0D8C0037B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0C61-55B5-4866-82ED-1F27BD1DA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A8D3-1AE1-475C-98D0-AF6B06512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59480"/>
            <a:ext cx="91486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4360" y="6462720"/>
            <a:ext cx="1739880" cy="3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88000" y="6208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F Tech Jamboree #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7240" cy="76320"/>
          </a:xfrm>
          <a:prstGeom prst="rect">
            <a:avLst/>
          </a:prstGeom>
          <a:solidFill>
            <a:srgbClr val="ff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94080" y="655308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6600" y="6524640"/>
            <a:ext cx="496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5CF2-223D-46AA-8D60-B2C493AB0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911920"/>
            <a:ext cx="9148680" cy="94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156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98600" y="5473440"/>
            <a:ext cx="10634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960" y="648000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8240" y="1798200"/>
            <a:ext cx="8329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636640"/>
            <a:ext cx="8329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_EMBE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29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ルネサスソリューションズ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宗像尚郎 （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nakata.hisao@renesas.com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221000"/>
            <a:ext cx="763272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組み込み界でありがちな愚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開発コミュニティの中では “組み込み” は亜流組み込み開発者の要求はあまり聞いてもらえ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2.6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は潤沢なリソースが使える環境を想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しているので 組み込み向きで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メインラインの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kernel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開発ポリシーと共存できる形で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組み込み向けの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Profiling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を導入してもらうには 何を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とっかかりにすれば良いのか ・・・・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7135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68360" y="2825640"/>
            <a:ext cx="8280360" cy="1079640"/>
            <a:chOff x="468360" y="2825640"/>
            <a:chExt cx="8280360" cy="1079640"/>
          </a:xfrm>
        </p:grpSpPr>
        <p:sp>
          <p:nvSpPr>
            <p:cNvPr id="93" name=""/>
            <p:cNvSpPr/>
            <p:nvPr/>
          </p:nvSpPr>
          <p:spPr>
            <a:xfrm>
              <a:off x="468360" y="2825640"/>
              <a:ext cx="8280360" cy="1079640"/>
            </a:xfrm>
            <a:prstGeom prst="roundRect">
              <a:avLst>
                <a:gd name="adj" fmla="val 10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9640" y="2924280"/>
              <a:ext cx="813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configurati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に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config_embedded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という項目がある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（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2.6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から追加された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89440" y="5056200"/>
            <a:ext cx="4824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何を設定する 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部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ernel config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設定を拡張する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組込系向けに必ずしも必要の無いオプションを選択し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チューニングで切るようにするためのオプショ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的にわかっている人だけが使うことを想定し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内のアルゴリズムには影響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age size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どのパラメータ設定にも影響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2781360"/>
            <a:ext cx="7201080" cy="2087640"/>
            <a:chOff x="1042920" y="2781360"/>
            <a:chExt cx="7201080" cy="2087640"/>
          </a:xfrm>
        </p:grpSpPr>
        <p:sp>
          <p:nvSpPr>
            <p:cNvPr id="99" name=""/>
            <p:cNvSpPr/>
            <p:nvPr/>
          </p:nvSpPr>
          <p:spPr>
            <a:xfrm>
              <a:off x="1042920" y="3069000"/>
              <a:ext cx="7201080" cy="172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2000" y="3069000"/>
              <a:ext cx="216036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UID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M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KALLSY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HOTPL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PRIN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3640" y="2781360"/>
              <a:ext cx="216036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LF_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BASE_F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FU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P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HM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6440" y="3070440"/>
              <a:ext cx="32846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O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JUM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導入された経緯をさかのぼってみる ｰ ①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58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320840"/>
            <a:ext cx="7934400" cy="477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900000" y="3429000"/>
            <a:ext cx="7704360" cy="2592360"/>
            <a:chOff x="900000" y="3429000"/>
            <a:chExt cx="7704360" cy="2592360"/>
          </a:xfrm>
        </p:grpSpPr>
        <p:sp>
          <p:nvSpPr>
            <p:cNvPr id="106" name=""/>
            <p:cNvSpPr/>
            <p:nvPr/>
          </p:nvSpPr>
          <p:spPr>
            <a:xfrm>
              <a:off x="900000" y="3429000"/>
              <a:ext cx="770436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1640" y="3573360"/>
              <a:ext cx="7561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kernel 2.5.68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当時に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機能の組み込みに関連し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は組み込みには必要ない（フットプリントが大きい）</a:t>
              </a:r>
              <a:br>
                <a:rPr sz="2400"/>
              </a:b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という意見に対し、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lan Cox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が “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inux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の組み込み応用も大事だから…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.” 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という発言をしている</a:t>
              </a:r>
              <a:br>
                <a:rPr sz="2400"/>
              </a:b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当時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Alan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は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o-MMU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サポートを推進していたので、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が使えない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CPU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サポートを考慮してくれていた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導入された経緯をさかのぼってみる ｰ ②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91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189080"/>
            <a:ext cx="8353440" cy="49766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755640" y="1844640"/>
            <a:ext cx="7848720" cy="2592360"/>
            <a:chOff x="755640" y="1844640"/>
            <a:chExt cx="7848720" cy="2592360"/>
          </a:xfrm>
        </p:grpSpPr>
        <p:sp>
          <p:nvSpPr>
            <p:cNvPr id="111" name=""/>
            <p:cNvSpPr/>
            <p:nvPr/>
          </p:nvSpPr>
          <p:spPr>
            <a:xfrm>
              <a:off x="755640" y="1844640"/>
              <a:ext cx="784872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920" y="1916280"/>
              <a:ext cx="770580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ndrew Mort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が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config menu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を見直して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組み込み用に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kernel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の一部の機能を 切り離す設定を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追加する事に合意し、 現在のメニュー構造が導入され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⇒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その後 組み込みの要求に応じて選択可能な項目が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　　追加されてきた （ようだ）。　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あまり深く考えず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.... 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　　それならここに入れときましょう　という吹きだまり状況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現状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nfig_embedded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総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積極的な使われ方（受け止められ方）はされていないよう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一部機能を使わなくするための拡張オプションという性格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組み込みで欲しい機能、設定を追加する目的では使われてい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現在の設定内容は必ずしも “組み込み” の要求を反映していない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⇒ 例えば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PTL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使うために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UTE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ポートは必須なのだし…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　どちらかというと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-MMU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型のサポート用の設定の色彩が強い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組み込み” も多様化 → 一言でグループ化できなくなっ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85 (&gt;1,000 MIPS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51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30 MI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619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MIP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ulti-Core CPU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MP CPU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uma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この先 どのようにもっていきた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5120" y="1052640"/>
            <a:ext cx="849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既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2.6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サポートされている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nfig_embedded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設定オプションをどう活用するか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という問題提起で、積極的に 組み込み向け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プロファイリングをメインラインに反映できないか…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現在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tuning parameter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及び今後の拡張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として 組み込みの要求プロファイルを何種類か提案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することができないか…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次回以降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mboree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を活用して意見集約した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2:36:43Z</dcterms:created>
  <dc:creator>端山貴也</dc:creator>
  <dc:description/>
  <dc:language>en-US</dc:language>
  <cp:lastModifiedBy>munakata</cp:lastModifiedBy>
  <dcterms:modified xsi:type="dcterms:W3CDTF">2006-07-13T04:01:53Z</dcterms:modified>
  <cp:revision>14</cp:revision>
  <dc:subject/>
  <dc:title>CONFIG_EMBEDDED</dc:title>
</cp:coreProperties>
</file>